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07E-7CF8-4B8C-A343-E69FCEA6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F5C-1F47-41DE-87BC-4439A0C3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DB9-EDAD-4C61-8F20-56DC0FDF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864-2968-47ED-8701-B9E75079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DCCE-644A-4592-9936-5EB3F862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1089-A84F-4C4D-8B2D-D8358BF0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8210-25B1-4B6A-9099-466684E5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E183-8B47-4EC1-B11D-07A77A02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4138-2E3B-4C82-89A3-C4C2A10C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BB62-C9A5-4D23-899E-25600D42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B1F1-82F6-402F-A6D3-29AF96F5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857-3068-433F-B7EC-AAE32D54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C306-281E-4B50-BA25-76C6329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E17F-6398-4842-B440-010698F6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6490-EE16-4E92-A606-EED07BB5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6F23-CE7E-4907-98D5-DF495CEE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7509-3B6F-428E-BD91-00656260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9D97-21F0-4E0A-B1D4-CC024C4B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8E14-0870-468D-88F1-DC9F63A0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E585-188D-44FC-A365-D8FFE7D3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910C-1106-4497-9848-0D97CC11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0438-AFFB-42DD-A4AF-E8B12910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309-10D2-4F04-BB55-EA7445BE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6D09-A36D-4278-95ED-A01CC2D9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D394E-6A02-4E2C-83EA-8AE43A66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2D1B-7F87-4AAD-9652-2DCA907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9F557-D3C7-49A7-9659-D7F29610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AD25-3A33-4E0F-8CEA-7BBC9BC1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27E5-3854-4C5B-8F86-A79C915E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0915-AD70-4013-A07C-AB1C900D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20FE3-DBE0-4DC6-91B7-EF603FAF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A08EE-CABF-4D40-AFCA-93832BDB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255B1-AC38-4A82-A121-955F1521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49C-EAB5-4509-BCD8-A2164998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3D472-993C-4D9C-AE6F-5E6270BA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F723D-D2DD-4B98-B86C-42D1919C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16DE5-03FD-40A5-BFE1-70A1234E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4968-86D6-4E33-A928-AA6F5540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75F3B-44EB-4C8B-B666-E6705B28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26D4D-3F05-46E0-91CA-0C3C87C7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B6087-B49D-4AD5-A5B6-0D44F81F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A7288-8F24-4067-A4C8-F85A390B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DEAE-3782-435A-9FE7-3B3195A4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91132-6B07-4EBA-8385-D2B587AF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2B8-E88D-449C-9D61-7D150C16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D79E-0BC1-4338-A3D9-D5290BF4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6F9FA-65F9-4DAE-B4B8-C88FB269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53754-E848-4B16-AD2B-80602D9E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14574-053E-4204-90DB-69B1AC32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423DE-9137-403E-B4B0-91F5A5BC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5A448-AD0B-43B3-9698-AFDF26E5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4D8A-11C6-4667-8EED-3209E544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1132C-FF12-49A6-A160-2E4FDD1A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BFF53-4A2B-4A49-979B-7B63452F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1979A-A8F7-411E-8A38-6CBB1F84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A0E-0905-4F5D-A43D-6421D65F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CFF6D-AFD7-4B43-8FE3-1ED6C90F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69F66-597B-41E0-8E42-6E9662CC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8FC3-D50A-47F2-86FF-6C24AD26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05F70-2A98-48AD-8619-34317F84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7EA5A-6DC7-4A19-BC83-1C896234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8DD18-E129-472B-8FE7-698A421B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36077-9A5C-475B-82B3-21311726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771A3-592E-4B02-802C-DC920B52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BA41C-A4C4-4DDD-B5DF-188A17B6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8988D-7D71-4CB4-AAB6-B3A1C1CE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C71-30CF-48AD-A2F6-3978EC03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9A903-9D3F-495A-B45E-053C3AFB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AD5D-A890-4BAB-96CA-F16689CF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E3DBB-F5F9-43D1-A83B-2997844A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54F5C-0B8C-4C51-853C-4C490961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89D90-3122-4DAA-BDC3-E7F193EC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D0DE4-E185-430B-8720-0F0DB985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6885B-CA8F-4CE5-A489-69316B91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15F45-34E4-4E7F-A59C-70FEA0B6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B5128-B084-4BE7-BE03-0868443B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E8FCE-0C88-4DF8-9903-F41C0D31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4A2-4D98-408D-B94B-A5F9D1BB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12DF6-DB76-40D7-9C59-1E8F9981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9FF9D-3F73-4D68-AE42-92C38336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F9AD8-646C-41C1-AB39-F24DBC2E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F1D3F-7B0A-4BF5-B2AF-A9334C6E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ED2D-C280-4FC9-AB7D-2044E5F4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D9CE2-EBBE-4BA1-A766-EA2998B5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30B4C-4671-4ED4-98B6-A32EDE83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158C6-D53D-478A-9BBB-F462DFD7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BEB3E-0EFB-4DF0-A41F-718F5DED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4B09F-D534-4337-8D06-75FF8118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344-A19D-4231-8B6F-24BC2067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9FF32-E945-4843-88B1-11B1E8F3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A0728-C6A9-4734-A738-C81BBA48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1E154-E756-4A03-B0B5-F88961A7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4DCF4-97DB-4705-812E-39B15EA7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561DB-4170-4349-8A2F-9D62DDF4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E5D2F-EC24-4E50-B6AD-B9D9CDB7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CE102-9430-44E5-8927-5BF91CB2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6D8E-AF8A-46D9-B8E1-831B79E3F73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1206360" y="3648240"/>
            <a:ext cx="975384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1219320" y="5048280"/>
            <a:ext cx="97534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1206360" y="3648240"/>
            <a:ext cx="30492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1219320" y="5048280"/>
            <a:ext cx="30456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620720" y="6354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2A88-A4DE-4EAB-A5EB-4563DA0682B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1219320" y="2819520"/>
            <a:ext cx="97534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219320" y="2819520"/>
            <a:ext cx="30456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427040" y="6354360"/>
            <a:ext cx="2027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49A5-6C52-45E2-AF13-5D41F95D020B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6E22-EA6F-4DC4-AFD9-AD53F6C7F66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6A6D-3535-4211-9B95-22693E57237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823752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72C9-5F07-4CA0-9060-A7046F4193E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609480" y="500040"/>
            <a:ext cx="24444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22BE-06E6-445D-B82C-D286E200026C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874080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7F1C-AAA5-41F4-B181-3C8F8D8AB3B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69520" y="1128600"/>
            <a:ext cx="10890360" cy="55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           </a:t>
            </a: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КОРИСНА  ІНФОРМАЦІЯ ДЛЯ УЧАСНИКА ЗНО-2018</a:t>
            </a:r>
            <a:br>
              <a:rPr sz="1600"/>
            </a:b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 </a:t>
            </a:r>
            <a:br>
              <a:rPr sz="16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ТЕРМІН ДІЇ СЕРТИФІКАТІВ ЗОВНІШНЬОГО НЕЗАЛЕЖНОГО ОЦІНЮВ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ідповідно до Умов прийому на навчання до закладів вищої освіти України в 2018 році приймаються сертифікати зовнішнього незалежного оцінювання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2016, 2017 та 2018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років, крім оцінок з англійської, французької, німецької та іспанської мов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цінка з англійської, французької, німецької та іспанської мов приймаються лише з сертифікатів зовнішнього незалежного оцінювання 2018 року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ступники можуть подати до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семи заяв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на місця державного та регіонального замовлення  не більше ніж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на чотири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спеціальності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МЕДИЧНИЙ НАПРЯМ НАВЧ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Мінімальні значення кількості балів з вступних випробувань для вступу на основі повної загальної середньої освіти для спеціальностей «Стоматологія», «Медицина», «Педіатрія» галузі знань «Охорона здоров’я» не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менше 150 балів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 ПРО ВИБІР ПРЕДМЕТІВ ДЛЯ РЕЄСТРАЦІЇ НА ЗНО (ДЛЯ ВСТУПУ НА НАВЧАННЯ ДО ВНЗ)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собливістю вибору предметів на ЗНО-2018 для будь-якої спеціальності є те, що уніфікований Перелік конкурсних предметів вже відомий (Умови прийому на навчання до закладів вищої освіти України в 2018 році, наказ МОНУ від 13.10.2017 року № 1378  Додаток 4). 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крім першого обов’язкового конкурсного предмету для усіх спеціальностей та галузей знань – української мови і літератури, у додатку зазначені другий та третій конкурсні предмети з усіх спеціальностей.</a:t>
            </a:r>
            <a:br>
              <a:rPr sz="2000"/>
            </a:b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2"/>
          <p:cNvSpPr/>
          <p:nvPr/>
        </p:nvSpPr>
        <p:spPr>
          <a:xfrm>
            <a:off x="3048120" y="415800"/>
            <a:ext cx="69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ff"/>
                </a:solidFill>
                <a:latin typeface="Arial"/>
              </a:rPr>
              <a:t>КОРИСНА  ІНФОРМАЦІЯ ДЛЯ УЧАСНИКА ЗНО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"/>
          <p:cNvSpPr/>
          <p:nvPr/>
        </p:nvSpPr>
        <p:spPr>
          <a:xfrm>
            <a:off x="617400" y="1068480"/>
            <a:ext cx="11020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 ЗМІСТ СЕРТИФІКАЦІЙНИХ РОБІТ ЗНО-2018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сайті Українського ЦОЯО оприлюднено характеристики сертифікаційних робіт ЗНО 2018 року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нено порівняно з 2017 роком кількість завдань в предметах: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біль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кількість завдань у тестах фізики (38) й хімії (52);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мен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 біології (48), географії (56)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суттєвіші зміни відбулися у структурі сертифікаційних робіт з іноземних мов: додано нову частину «Розуміння мови на слух (аудіювання)», суттєво збільшено кількість завдань – 59 (було 43)  і час виконання - 150 хвилин (було 120 хв.), визначено порядок зарахування результатів для визначення оцінки державної підсумкової атестації випускників 2018 року, які вивчали мову на рівні стандарту або академічному та профільному рівні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ст і складність тестів з усіх предметів ЗНО відповідатиме Програмам зовнішнього незалежного оцінювання (наказ МОНУ від 03.02.2016 № 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07:05:18Z</dcterms:created>
  <dc:creator>Валерия А. Ханикова</dc:creator>
  <dc:description/>
  <dc:language>en-US</dc:language>
  <cp:lastModifiedBy>user</cp:lastModifiedBy>
  <dcterms:modified xsi:type="dcterms:W3CDTF">2018-02-27T06:36:36Z</dcterms:modified>
  <cp:revision>106</cp:revision>
  <dc:subject/>
  <dc:title>Особливості ЗНО-2018</dc:title>
</cp:coreProperties>
</file>