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883C-AA47-4706-987F-D891B284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D3C4-31EA-4915-B8AE-E56B61C7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BE1C-3A0C-408C-91E1-6F77E4D1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7A07-046A-420F-A9F5-7CB74482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324A-F38A-4FB2-924B-A536DAD8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9B0F-25C6-48A8-883A-490DA785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EC7F-FE14-4CE3-8333-D51D8A42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C761-4610-4C3B-949A-8F8A60A0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D405-40DD-4FD0-9B9E-8226A918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FEAA-D228-4451-9893-8C071D08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D09A-3431-4E1D-AEFF-21C91F09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C3FA-9F4A-4B21-A3D5-749468EC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ADE8-FEB8-4F1A-AA33-140E8AB5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1E89-042D-4FF6-BF30-FDC4DC44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858E-B0E5-45C4-9805-B05A8CC6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996A-4902-4652-9CCE-02EEA72D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431E-2C48-4D13-A081-53987448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CD257-1A1D-4CE8-8127-E46DC3FE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DA19A-58DE-4001-A986-F51E1661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B8C60-5EDE-41BC-8FFC-3B6803FB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6119C-2121-467C-950A-75404036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AD509-B198-4F99-9AB0-F573CAC9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7443-827A-4845-B5B7-5DEB7674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8EA85-4A8C-4D2D-965F-C9799F7D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0679A-7030-49C9-8CA2-E3CC8C13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CA4DA-35DF-4B43-B0F8-DF1DD913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7FC82-99AC-49C4-8DD3-D99C53A2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EAD73-3679-4ED6-A856-0D673B70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EEF39-88E0-4FBD-898A-31A7F8A4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FF21D-2968-4700-86CF-5CE99893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C7AF8-F860-45C6-A78E-2587FE2A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248CE-1CA8-45E6-99D2-68EF27F7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91008-92F7-4A24-87EF-8D358D63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02E8-8D2E-4CA7-8F07-EA2846CD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C1A14-DE25-4BB4-8BE8-5A575118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5E73B-91D4-4395-8131-8FBE8357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16AAE-5AFB-4A04-99F1-156B6181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2AC37-2387-4572-9ECD-3FD3D29D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C7742-A424-4500-9EF0-214362A3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89D14-799E-41C5-B830-FC099C85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319B4-199C-4BCB-BF3C-FAFEC55B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92D4B-7ED3-4A9D-A30B-FE9A41A9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CAE60-2CED-492D-86D7-E4B55E52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77052-5A3C-4182-9F4A-41C4F54B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2937-AB3B-4094-B92B-A03053A8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F3CF3-8ED0-4231-977F-C50064FC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C1A54-AE21-4970-AF47-181A0E6B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73FDF-1C55-42D0-8045-D8EF14C9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003D7-2AF7-4965-9DF7-7B562580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266E9-200D-4E84-BE0F-7FAEA3EB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5AB1B-14C9-4E38-982A-52E9C5DB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DDA37-C6C0-47B5-9E72-6F49D308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68310-6727-42C8-AF09-FD262AAE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02D1D-7F3B-4378-ADDC-2F04E3D2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7AA2C-B61B-4C45-A200-34E4EC2D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606-7DE9-47D6-8FEB-1F526682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00FE2-5EEE-40AE-AFB6-F6AD8FDA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5BDFF-7276-4A79-9FF2-7F8CEF7E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5B1E6-B6E6-4225-BCCD-AD569A2F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A38B1-105B-4537-B419-50854204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D7BAC-1B32-460E-A560-CDEE87B0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12F95-E573-4B40-BA14-DA1F3D00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CD828-A3BA-4B6A-9D91-675A612B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283E4-67FD-4975-90DF-A1A8D5D4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65A9C-F425-4A86-A5F9-F19C1141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E6620-8F97-45E4-90A1-9027F710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2633-8B76-4B7B-B4F5-0532EC3E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5F8E8-3D04-4B8E-B2A8-7A090D08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40AC9-8802-4651-97E2-B0BD756F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037B4-2CE9-4570-8470-F53DB30C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D6AF0-39D9-4FB1-A3E2-D9F1E8B6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BCABB-F2A3-4378-94E9-1D9EA635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D92F2-A195-4ADB-BF2A-3840C7AE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2713C-F4C1-4222-AB10-461BCBBF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37915-0DAD-40CB-A267-0D57E50A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CAD5B-BE7E-4695-A4C5-529EE519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276F2-5BD4-414A-9460-096C18C9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215B-A19A-4B71-A446-279BB626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F1978-8A95-4A98-9A91-C9F3BADB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F4786-B390-4D2E-B613-15353182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84F66-D76A-4FBE-899C-0960CC37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76DF1-F3DE-43C2-BCA0-B76A02B0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3F3DB-9E4E-4083-A0BF-72887CEC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DD8AB-DE2B-42D0-BE66-A39B80E8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F9EFB-8C7C-4F0A-BE9F-9B3DAC76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2EA36-8E99-49E0-B7C3-A4AE40D0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64018-F8B5-44F0-B6FA-2FF12E19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0AE33-003D-4B48-8784-F7B9358C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1A4F-FA8A-45F6-805B-91CC25FA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B043F-7C75-4EEC-9E5C-F2D6C1A4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1D43E-1009-4BB6-9D52-0369743C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7582A-C4EF-4D68-BFD8-DF9A9FCA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B81B3-C122-4EAD-A62D-C9ECDDB4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00751-421F-42F2-B840-8A264FD2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AE729-6303-4051-99F7-24081205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4C6BC-9F12-4043-B54F-50E3EDF8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E1C2-D2F8-45C0-9977-40B9EF2CE749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1206360" y="3648240"/>
            <a:ext cx="975384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1219320" y="5048280"/>
            <a:ext cx="975348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1206360" y="3648240"/>
            <a:ext cx="30492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1219320" y="5048280"/>
            <a:ext cx="30456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8534520" y="6354360"/>
            <a:ext cx="3047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865320" y="6354360"/>
            <a:ext cx="4632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620720" y="6354360"/>
            <a:ext cx="1625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3F0F-B117-4C31-B1E4-199D1B8702C9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1219320" y="2819520"/>
            <a:ext cx="975348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219320" y="2819520"/>
            <a:ext cx="30456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534520" y="6354360"/>
            <a:ext cx="3047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865320" y="6354360"/>
            <a:ext cx="4632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427040" y="6354360"/>
            <a:ext cx="2027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2C9B-1EA9-4FFA-AC16-4C963E68E9FF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C335-3F37-4B41-B15E-A1A360AE9CFB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E344-CED8-4135-ACA6-070D071DFC15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823752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5979-2EE9-4A52-8138-F46856B41BE5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609480" y="500040"/>
            <a:ext cx="24444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4838-7F5A-4E68-B9F3-2E5CF375EFD9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591120" y="64476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874080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8FC9-75CC-4B95-9D43-99031D28BBA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69520" y="1128600"/>
            <a:ext cx="10890360" cy="556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uk-UA" sz="1600" spc="-1" strike="noStrike">
                <a:solidFill>
                  <a:srgbClr val="464653"/>
                </a:solidFill>
                <a:latin typeface="Cambria"/>
              </a:rPr>
              <a:t>                              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uk-UA" sz="1600" spc="-1" strike="noStrike">
                <a:solidFill>
                  <a:srgbClr val="464653"/>
                </a:solidFill>
                <a:latin typeface="Cambria"/>
              </a:rPr>
              <a:t>                                           </a:t>
            </a:r>
            <a:r>
              <a:rPr b="1" lang="uk-UA" sz="1600" spc="-1" strike="noStrike">
                <a:solidFill>
                  <a:srgbClr val="ff3399"/>
                </a:solidFill>
                <a:latin typeface="Cambria"/>
              </a:rPr>
              <a:t>КОРИСНА  ІНФОРМАЦІЯ ДЛЯ УЧАСНИКА ЗНО-2018</a:t>
            </a:r>
            <a:br>
              <a:rPr sz="1600"/>
            </a:br>
            <a:r>
              <a:rPr b="1" lang="uk-UA" sz="1600" spc="-1" strike="noStrike">
                <a:solidFill>
                  <a:srgbClr val="ff3399"/>
                </a:solidFill>
                <a:latin typeface="Cambria"/>
              </a:rPr>
              <a:t> </a:t>
            </a:r>
            <a:br>
              <a:rPr sz="1600"/>
            </a:b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ПРО ТЕРМІН ДІЇ СЕРТИФІКАТІВ ЗОВНІШНЬОГО НЕЗАЛЕЖНОГО ОЦІНЮВАННЯ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Відповідно до Умов прийому на навчання до закладів вищої освіти України в 2018 році приймаються сертифікати зовнішнього незалежного оцінювання </a:t>
            </a: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2016, 2017 та 2018</a:t>
            </a: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 років, крім оцінок з англійської, французької, німецької та іспанської мов.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Оцінка з англійської, французької, німецької та іспанської мов приймаються лише з сертифікатів зовнішнього незалежного оцінювання 2018 року.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Вступники можуть подати до </a:t>
            </a: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семи заяв</a:t>
            </a: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 на місця державного та регіонального замовлення  не більше ніж </a:t>
            </a: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на чотири</a:t>
            </a: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 спеціальності.</a:t>
            </a:r>
            <a:br>
              <a:rPr sz="2000"/>
            </a:b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ПРО МЕДИЧНИЙ НАПРЯМ НАВЧАННЯ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Мінімальні значення кількості балів з вступних випробувань для вступу на основі повної загальної середньої освіти для спеціальностей «Стоматологія», «Медицина», «Педіатрія» галузі знань «Охорона здоров’я» не </a:t>
            </a: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менше 150 балів.</a:t>
            </a:r>
            <a:br>
              <a:rPr sz="2000"/>
            </a:br>
            <a:r>
              <a:rPr b="1" lang="uk-UA" sz="2000" spc="-1" strike="noStrike">
                <a:solidFill>
                  <a:srgbClr val="464653"/>
                </a:solidFill>
                <a:latin typeface="Arial Narrow"/>
              </a:rPr>
              <a:t> ПРО ВИБІР ПРЕДМЕТІВ ДЛЯ РЕЄСТРАЦІЇ НА ЗНО (ДЛЯ ВСТУПУ НА НАВЧАННЯ ДО ВНЗ)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Особливістю вибору предметів на ЗНО-2018 для будь-якої спеціальності є те, що уніфікований Перелік конкурсних предметів вже відомий (Умови прийому на навчання до закладів вищої освіти України в 2018 році, наказ МОНУ від 13.10.2017 року № 1378  Додаток 4). </a:t>
            </a:r>
            <a:br>
              <a:rPr sz="2000"/>
            </a:br>
            <a:r>
              <a:rPr b="0" lang="uk-UA" sz="2000" spc="-1" strike="noStrike">
                <a:solidFill>
                  <a:srgbClr val="464653"/>
                </a:solidFill>
                <a:latin typeface="Arial Narrow"/>
              </a:rPr>
              <a:t>Окрім першого обов’язкового конкурсного предмету для усіх спеціальностей та галузей знань – української мови і літератури, у додатку зазначені другий та третій конкурсні предмети з усіх спеціальностей.</a:t>
            </a:r>
            <a:br>
              <a:rPr sz="2000"/>
            </a:br>
            <a:endParaRPr b="0" lang="en-US" sz="20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2"/>
          <p:cNvSpPr/>
          <p:nvPr/>
        </p:nvSpPr>
        <p:spPr>
          <a:xfrm>
            <a:off x="3048120" y="415800"/>
            <a:ext cx="69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ff"/>
                </a:solidFill>
                <a:latin typeface="Arial"/>
              </a:rPr>
              <a:t>КОРИСНА  ІНФОРМАЦІЯ ДЛЯ УЧАСНИКА ЗНО-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3"/>
          <p:cNvSpPr/>
          <p:nvPr/>
        </p:nvSpPr>
        <p:spPr>
          <a:xfrm>
            <a:off x="617400" y="1068480"/>
            <a:ext cx="11020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РО ЗМІСТ СЕРТИФІКАЦІЙНИХ РОБІТ ЗНО-2018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 сайті Українського ЦОЯО оприлюднено характеристики сертифікаційних робіт ЗНО 2018 року.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мінено порівняно з 2017 роком кількість завдань в предметах: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збільшен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кількість завдань у тестах фізики (38) й хімії (52);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зменшен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-  біології (48), географії (56);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йсуттєвіші зміни відбулися у структурі сертифікаційних робіт з іноземних мов: додано нову частину «Розуміння мови на слух (аудіювання)», суттєво збільшено кількість завдань – 59 (було 43)  і час виконання - 150 хвилин (було 120 хв.), визначено порядок зарахування результатів для визначення оцінки державної підсумкової атестації випускників 2018 року, які вивчали мову на рівні стандарту або академічному та профільному рівні.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міст і складність тестів з усіх предметів ЗНО відповідатиме Програмам зовнішнього незалежного оцінювання (наказ МОНУ від 03.02.2016 № 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4T07:05:18Z</dcterms:created>
  <dc:creator>Валерия А. Ханикова</dc:creator>
  <dc:description/>
  <dc:language>en-US</dc:language>
  <cp:lastModifiedBy>user</cp:lastModifiedBy>
  <dcterms:modified xsi:type="dcterms:W3CDTF">2018-02-27T06:36:36Z</dcterms:modified>
  <cp:revision>106</cp:revision>
  <dc:subject/>
  <dc:title>Особливості ЗНО-2018</dc:title>
</cp:coreProperties>
</file>