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D97-6063-4B09-897A-4BBF4A25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4D4-20BD-4C34-937E-DA6D92BA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2FC-8346-4AAF-B47F-F36F9794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B4D-97EE-4D70-B72F-0EEDCDD3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A018-CAED-4381-A21C-48A62A65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675C-A58F-4BAE-B39E-7F5938A8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C8C6-E5B1-4A3A-BED7-ED248F76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2390-D98D-4FFF-8DDD-27020911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C236-D001-4D79-B256-DF7F26F2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D60B-1A5B-4420-AEE6-801B6519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633A-93E2-41A3-907E-F8512B87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654-83E7-4DD1-AF06-08DF712D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D992-9ADD-42D1-9812-7BB4731E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EEF3-6797-4200-915C-36664B2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A329-A08A-4029-B015-D89516E5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DBB7-A7A3-490E-AB7C-547D4EAE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524A-1A52-4B54-AFCC-93989416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165B-6715-481D-895E-6386DC44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3B07-0A5F-4F79-A507-FE33AA27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E1CC-8DEC-4599-9714-9821BD7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4B10-19CF-4B23-8E17-86AC9D93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350C-EBA6-4B70-86AC-FB5DF6B2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B52-C00A-4618-9DF2-94462469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1BC7-3736-4377-B9C3-BE58E0BA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E996-26E3-48A4-8E1C-21B9A002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F9422-FA21-4952-A2D8-C6FCBC56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A57A-C1A1-4CBA-9158-39D2AE4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753AF-8FF4-495E-9A7D-10B0114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7168-2779-4618-9C64-2AD17E28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0567-C626-4025-A969-6D993D47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13F4-FB8D-4944-A282-E4A901B2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C897-D343-4031-A28E-7F672C08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EC7F-DC51-4D1D-B07F-68CF71DD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C8C-60BF-4422-B1C3-A3CE37E9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2FB8D-6D9F-4F0D-B85F-61E40FA4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6B817-9B71-4368-BA01-E8DF92A8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EFA6-6D3A-4F1E-82F5-528D56BC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1471-4C43-42D8-B41F-C060D50B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57E9-CCC3-46E4-9BC5-B259EF1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98E88-6CF4-47A6-BBFD-48A25A55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7D17-AB48-446B-AA4F-078989EB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6991-7356-406C-8AD7-637B7D43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7AD6-2684-4AC5-A242-A9C55F67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A54EC-BD99-481C-801B-45BEC1EC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328-8E52-47FC-B183-DC9A4FF1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5CBC7-B423-44A4-9BB9-BBE0B235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92A8-41C0-4756-A747-B943B4C4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3290-D50D-48B2-931B-BD3EFD9B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5DACA-CD6A-42FF-9B32-3189B36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2788-60C5-4CE2-B849-EFDDB94F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296BA-B243-49CD-80D6-5667B9C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89246-73BC-4F44-BBEF-3925186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021A-232B-4A26-BA2A-AD789311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C008-FF7E-4400-8FEC-1CA17B05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ADB84-02B9-4653-9203-FE17B8AA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DE3-1D6D-40FA-945D-EA6D2494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C08B-5F4C-430F-8610-F0FFE3A2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EEB7-02E4-4CF4-AB73-781E14AB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A08D9-3427-437B-8AB0-EDCA5A78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0FE8-E398-4B67-ADA1-3457CC3B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AFF55-5D0B-41AC-98A4-170A153C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F4743-0AAB-4A45-A41B-77AA44AC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B8D23-1CA9-4B1A-94A2-AAD1345E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BF37-E8C7-4CD9-9152-72480A7B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B0F58-5416-4ACD-8814-0394B92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4FB51-FB21-45AF-9A06-9DC14B49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0B9-D618-482B-A4F8-98C9229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A7C13-595C-483A-9652-C84E4F02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F6269-507A-487E-B1C7-F7CB6497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00F3C-8F93-443C-9049-BB5AE903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87A74-B5E9-4332-AFFE-7915FB3A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76F4F-E275-47FA-960D-D6645C0E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BB38F-8DA6-4C31-B9A2-72AE094D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146C4-CCAB-4C8B-B90F-EEB6EDA4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2734E-6769-42BF-9820-534BB56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EC2F3-8E9D-4A86-831E-7F55EC0F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97D5B-5B57-45C1-9745-08F6A1C6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5D5-154B-4579-B00A-63166D7F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1BB5C-96F6-4AEE-BF50-578A646F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3BBA7-1281-4130-B75E-8C780FB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505B-D373-4374-BCE8-9315793B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96415-77CC-4B29-A141-E91DCD54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A23CF-DADA-4B75-B74F-37582D93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175A4-23B7-4F04-B217-2629C316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77D88-8FED-461D-A046-9E57DA6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2BAB8-B552-4C9A-8DE4-FC82E3A1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01032-67F8-49B4-BDC6-FD61F7A6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E588B-0C1E-4394-8C34-A930D17F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721-F7FA-40AC-AB89-F24C84D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62757-60A0-4C76-89B9-B7A9C6A9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6B4F0-1ACE-4D7C-BC7F-BD62387F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BADF2-B4BE-454C-820F-40755E4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A644E-A25C-4B6B-A744-9DF3ADD0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A6A7E-2A80-4BB2-BB73-A33A669D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E05E-9F34-4E2E-ACE8-8F6CEDE8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9B6ED-332C-466E-8FDE-79D2D8E3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00C4-7C7A-4ECE-88CB-8514D993881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1206360" y="3648240"/>
            <a:ext cx="975384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1206360" y="3648240"/>
            <a:ext cx="30492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43CE-50B6-47D5-BC80-E9E41A6271F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F3E5-BDA3-4662-BF3B-753AA809AB60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A890-4C88-4207-9CBD-C68FA7D9D7B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857-23E3-4CD4-84C0-E051A290B70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162-76E5-4079-B739-C5106FF0138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609480" y="500040"/>
            <a:ext cx="24444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BDD-0B6C-47C4-BCE3-85A3DC717D91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874080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00DC-B41E-4870-B0AE-0CD70D3DC84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69520" y="1128600"/>
            <a:ext cx="10890360" cy="55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           </a:t>
            </a: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КОРИСНА  ІНФОРМАЦІЯ ДЛЯ УЧАСНИКА ЗНО-2018</a:t>
            </a:r>
            <a:br>
              <a:rPr sz="1600"/>
            </a:b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 </a:t>
            </a:r>
            <a:br>
              <a:rPr sz="16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ТЕРМІН ДІЇ СЕРТИФІКАТІВ ЗОВНІШНЬОГО НЕЗАЛЕЖНОГО ОЦІНЮВ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ідповідно до Умов прийому на навчання до закладів вищої освіти України в 2018 році приймаються сертифікати зовнішнього незалежного оцінювання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2016, 2017 та 2018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років, крім оцінок з англійської, французької, німецької та іспанської мов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цінка з англійської, французької, німецької та іспанської мов приймаються лише з сертифікатів зовнішнього незалежного оцінювання 2018 року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ступники можуть подати до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семи заяв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на місця державного та регіонального замовлення  не більше ніж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на чотири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спеціальності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МЕДИЧНИЙ НАПРЯМ НАВЧ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Мінімальні значення кількості балів з вступних випробувань для вступу на основі повної загальної середньої освіти для спеціальностей «Стоматологія», «Медицина», «Педіатрія» галузі знань «Охорона здоров’я» не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менше 150 балів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 ПРО ВИБІР ПРЕДМЕТІВ ДЛЯ РЕЄСТРАЦІЇ НА ЗНО (ДЛЯ ВСТУПУ НА НАВЧАННЯ ДО ВНЗ)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собливістю вибору предметів на ЗНО-2018 для будь-якої спеціальності є те, що уніфікований Перелік конкурсних предметів вже відомий (Умови прийому на навчання до закладів вищої освіти України в 2018 році, наказ МОНУ від 13.10.2017 року № 1378  Додаток 4). 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крім першого обов’язкового конкурсного предмету для усіх спеціальностей та галузей знань – української мови і літератури, у додатку зазначені другий та третій конкурсні предмети з усіх спеціальностей.</a:t>
            </a:r>
            <a:br>
              <a:rPr sz="2000"/>
            </a:b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2"/>
          <p:cNvSpPr/>
          <p:nvPr/>
        </p:nvSpPr>
        <p:spPr>
          <a:xfrm>
            <a:off x="3048120" y="415800"/>
            <a:ext cx="69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ff"/>
                </a:solidFill>
                <a:latin typeface="Arial"/>
              </a:rPr>
              <a:t>КОРИСНА  ІНФОРМАЦІЯ ДЛЯ УЧАСНИКА ЗНО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617400" y="1068480"/>
            <a:ext cx="11020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 ЗМІСТ СЕРТИФІКАЦІЙНИХ РОБІТ ЗНО-2018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сайті Українського ЦОЯО оприлюднено характеристики сертифікаційних робіт ЗНО 2018 року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нено порівняно з 2017 роком кількість завдань в предметах: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біль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кількість завдань у тестах фізики (38) й хімії (52);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мен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 біології (48), географії (56)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суттєвіші зміни відбулися у структурі сертифікаційних робіт з іноземних мов: додано нову частину «Розуміння мови на слух (аудіювання)», суттєво збільшено кількість завдань – 59 (було 43)  і час виконання - 150 хвилин (було 120 хв.), визначено порядок зарахування результатів для визначення оцінки державної підсумкової атестації випускників 2018 року, які вивчали мову на рівні стандарту або академічному та профільному рівні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 і складність тестів з усіх предметів ЗНО відповідатиме Програмам зовнішнього незалежного оцінювання (наказ МОНУ від 03.02.2016 №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07:05:18Z</dcterms:created>
  <dc:creator>Валерия А. Ханикова</dc:creator>
  <dc:description/>
  <dc:language>en-US</dc:language>
  <cp:lastModifiedBy>user</cp:lastModifiedBy>
  <dcterms:modified xsi:type="dcterms:W3CDTF">2018-02-27T06:36:36Z</dcterms:modified>
  <cp:revision>106</cp:revision>
  <dc:subject/>
  <dc:title>Особливості ЗНО-2018</dc:title>
</cp:coreProperties>
</file>